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5DF4-BDAD-4DA2-8A37-A6FFD951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67A-A289-44D2-A173-8530DCE2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44BB-61B5-40D5-9FD7-699AA28C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3E2-B7E6-4EB2-928F-146FBA58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918-9487-4BB1-9364-B3CE2BF9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22A-DFEC-4199-91DF-FADD6474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FCA-990F-48F1-BAB5-35C7F2EC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C984-95FD-4638-86DD-DF609A5B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FB3-B99A-44E4-8E18-6FB1E115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C464-B818-419D-8BE0-CB7FDC7B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0B3-438D-45E8-A7E3-0ABECCA9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2ED-FCD2-44DF-8789-5291CE77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A0361-8BA1-4F70-BF80-25F21400F9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BC5B1-712A-4B78-876D-4567D2127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orldproblemsshroder.wikispaces.com/Week+One+Calendar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ng the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Ru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o Muskies!!!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ins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and Contrast your life in the United States with people from around the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3 ways it would be diffe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if the world was 100 people char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  10-15 lines (2 points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  3 differences (3 points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  1 way this would impact your life (1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 will learn toda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we will 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and Contrast your life with people from around the world? Collins 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A World Fact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on Ch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you need to k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in Societ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ze how issues may be viewed differently from different political grou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causes of oppression/ analyze respon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s Standar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ze how scarcity influences economic cho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lutions to persistent contemporary problem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e Jour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ould your life be differ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ight this impact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what ways might your life be better elsewhere?  Wors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ut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 Sociali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day re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in Expectation sheets by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ng the World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A World Fact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is reliable information?  Why or Why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on Compu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Independently- limit socializing, educational websi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 carefully to directions so you know where to find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be around to help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Back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down 1 fact about each coun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how 2 of these differences would impact your lif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find the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op Down Me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we looking f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we find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orldproblemsshroder.wikispaces.com/Week+One+Calend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4:50:48Z</dcterms:created>
  <dc:creator>Craig Rush</dc:creator>
  <dc:description/>
  <dc:language>en-US</dc:language>
  <cp:lastModifiedBy>Craig Rush</cp:lastModifiedBy>
  <dcterms:modified xsi:type="dcterms:W3CDTF">2011-01-06T13:42:19Z</dcterms:modified>
  <cp:revision>4</cp:revision>
  <dc:subject/>
  <dc:title>Comparing the World</dc:title>
</cp:coreProperties>
</file>